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D5F2-F5B4-47A5-951D-60024F2D6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DA5B-0FCD-476C-A868-761795D39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0384-852C-4C4E-B3DF-6CC84565E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DCBF-010D-4B7C-BBF6-4C886CBA2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E36A-E172-4B30-944E-49F48C346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F048-EF76-41D6-967D-5EECD6FC0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1DFC-361C-45CA-A622-02D6F2737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957C-CB48-4A0B-A426-851039C50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E7A1-5068-468C-816E-E0865DF76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6476-8B3C-4F9F-99B7-009F635F8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4AF7-49D8-4FFD-9E0E-774E9731B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D699-09F6-444B-B7BA-2EB25A9A4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1F0C-6ED9-4758-9632-B13E9641D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B5C2-644A-4FB1-8277-EE8BAE21A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6B8A-75DD-49D0-BF78-621830A95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8118-719F-4367-A7E4-2FF5E41DF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F4C9-B905-449F-BCA9-E2F8491BC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184C-ADCF-4ECC-80AE-E7B149808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4BBA-193D-4135-A1B8-06CBC7234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713B-2FE5-470E-BDDF-7EE262391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3AC5-6F44-4FEB-8BC0-4293C92CC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A89F-2D8D-46C2-A502-C23D758B2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4AE4-2DAB-4F5D-AA17-11AB2F37B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E1E71-BEB3-480B-B2D3-C3058DC0A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41C91-7A8D-4D6F-913B-0D7AA38A6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C4FAE-6277-4715-A019-DD9617B13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687-F17F-437B-8F76-7C9242322B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F58E-E68E-4F7A-BE5A-C2308375C2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EBA-BAC1-4EE4-8FD6-3A1F5DF868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8B05-6779-4563-A7FB-11B51811E2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674B-8539-400F-9EC5-28A3192EC2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53F2-31E8-454E-94B3-BABEA874BE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99A3-42BE-48FE-AA66-9A948F7704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2117-6D70-4B56-A973-41C20A24D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EEE4-6397-4EB4-9530-20B2AF0524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C6D-9C17-4A10-9207-3347F076D5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046-8945-442C-9D25-BD530C9F43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7E8B-DA7C-46F3-8F2B-CBF89D2D8F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A764-7F4B-4286-92B6-D512D2D664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FD3E2-96CA-4F6A-8F25-E7474C8089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E2381-D38F-44DA-8572-28387CE4A4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FAA4D-239D-4FF0-A08D-FF6B11ECD3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4AB8E-4E2C-4FB2-898E-B0E52AC76A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5F0B1-B37A-4367-B051-85B10ED0FD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84BDE-394B-4EFD-B321-1E32AFD9F0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BCFE3-80F1-44D7-BAF3-BF0AA535FF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8E23A-6CFC-4E70-970A-26118C2D61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61C2F-FE6B-4F69-A754-134DD62E95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ED1F2-2B6B-495A-ADF3-79BAB57F20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2BA90-B1AD-4C5C-93C4-3ED47ED62F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D796B-669F-4062-B614-EC92AFF1A5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5E3DC-B742-4A6F-B28B-1333ECC9E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75B3A-CB2F-4857-B17F-2D1889E8B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02BA0-8A5D-4AB5-B6A7-2FC1E6F66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92AD9-CBED-4DE0-A21F-8D4B24CE1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2AB8-C78F-4EA8-8073-65C02D901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A3A1-E8D2-40AF-8EFE-4AAFC79C3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ED97-0F71-4BDD-9DBF-7A9224B1C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8884-E632-4FDA-B686-25BA21364B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E98E-9859-4925-BC91-17445BC402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3033-C9DB-4F3A-9D85-5BA26BE2F0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5480" y="2023560"/>
            <a:ext cx="6096240" cy="193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онтроль качеств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: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Молекулярная диагностик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6676-90F5-4904-93A9-B29426D20C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0C0E-E84E-4727-9337-458AA7C586CA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рицательный результа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5582-A76D-4A27-8AC5-ED9D9763DB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28BC-D503-4F8A-A71C-12FAF94982D3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иск использования ПЦР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инство методов ПЦР в реальном времени «домашнего изготовления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ймеры не всегда оптимизированы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ительные контроли «домашнего изготовлен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ицательные контроли «домашнего изготовлен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претировать результаты следует с осторожность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D23E-E1F4-4C3A-A2A2-EB75312795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EE7E-BC5F-48D9-B7A8-6C8C45ABC16C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4197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щий подход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Взятие, транспортировка и обработ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72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еспечьте сохранность нуклеиновых кислот во время эти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Контроль контамин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72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одностороннее движение по технологической цепочке: от зоны, свободной от ДНК, где готовят реагенты, к зоне обработки проб, затем к зоне, где происходит амплификация и анализ продук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Положительные и отрицательные контро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Ссылка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: CLSI MM3-A (Molecular Diagnostic Methods for Infectious Diseases</a:t>
            </a: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етоды молекулярной диагностики инфекционных заболеваний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]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ECD8-893F-4736-AE2A-6E96FFA649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8438-651D-4B20-BC60-D59D03465E24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олекулярная диагностик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884160" y="198108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1E3E-AC1E-4A8C-9919-3D80A439E8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B8DD-40AE-4033-8D68-8A8EC97AFA60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084D-422A-40B5-9D7C-DCFA53C0A7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E944-99CF-41C5-BBBD-E7DA4B714975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ЦР в реальном времен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Р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РАЙ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олиме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3733920" y="2209680"/>
            <a:ext cx="297180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мплифицир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пециф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уклеинов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змеряе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флуоресц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BB48-30EF-4AB6-9B8B-D4DD428DFB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7E25-D1AD-4A15-9928-7F0C2D349B68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666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акции амплифик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4"/>
          <p:cNvSpPr/>
          <p:nvPr/>
        </p:nvSpPr>
        <p:spPr>
          <a:xfrm>
            <a:off x="1752480" y="2811600"/>
            <a:ext cx="5612040" cy="2471760"/>
          </a:xfrm>
          <a:custGeom>
            <a:avLst/>
            <a:gdLst>
              <a:gd name="textAreaLeft" fmla="*/ 0 w 5612040"/>
              <a:gd name="textAreaRight" fmla="*/ 5612040 w 5612040"/>
              <a:gd name="textAreaTop" fmla="*/ 0 h 2471760"/>
              <a:gd name="textAreaBottom" fmla="*/ 2472120 h 2471760"/>
            </a:gdLst>
            <a:ahLst/>
            <a:rect l="textAreaLeft" t="textAreaTop" r="textAreaRight" b="textAreaBottom"/>
            <a:pathLst>
              <a:path w="3535" h="1557">
                <a:moveTo>
                  <a:pt x="0" y="1509"/>
                </a:moveTo>
                <a:cubicBezTo>
                  <a:pt x="544" y="1533"/>
                  <a:pt x="1088" y="1557"/>
                  <a:pt x="1392" y="1509"/>
                </a:cubicBezTo>
                <a:cubicBezTo>
                  <a:pt x="1696" y="1461"/>
                  <a:pt x="1712" y="1333"/>
                  <a:pt x="1824" y="1221"/>
                </a:cubicBezTo>
                <a:cubicBezTo>
                  <a:pt x="1936" y="1109"/>
                  <a:pt x="1988" y="1019"/>
                  <a:pt x="2064" y="837"/>
                </a:cubicBezTo>
                <a:cubicBezTo>
                  <a:pt x="2140" y="655"/>
                  <a:pt x="2148" y="252"/>
                  <a:pt x="2283" y="126"/>
                </a:cubicBezTo>
                <a:cubicBezTo>
                  <a:pt x="2418" y="0"/>
                  <a:pt x="2665" y="94"/>
                  <a:pt x="2874" y="80"/>
                </a:cubicBezTo>
                <a:cubicBezTo>
                  <a:pt x="3083" y="66"/>
                  <a:pt x="3397" y="49"/>
                  <a:pt x="3535" y="4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Амплификация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/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AutoShape 6" descr=""/>
          <p:cNvPicPr/>
          <p:nvPr/>
        </p:nvPicPr>
        <p:blipFill>
          <a:blip r:embed="rId1"/>
          <a:stretch/>
        </p:blipFill>
        <p:spPr>
          <a:xfrm>
            <a:off x="523800" y="1805040"/>
            <a:ext cx="561960" cy="3462120"/>
          </a:xfrm>
          <a:prstGeom prst="rect">
            <a:avLst/>
          </a:prstGeom>
          <a:ln w="0">
            <a:noFill/>
          </a:ln>
        </p:spPr>
      </p:pic>
      <p:sp>
        <p:nvSpPr>
          <p:cNvPr id="196" name="Freeform 7"/>
          <p:cNvSpPr/>
          <p:nvPr/>
        </p:nvSpPr>
        <p:spPr>
          <a:xfrm>
            <a:off x="1752480" y="5300640"/>
            <a:ext cx="5562720" cy="13500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3504" h="85">
                <a:moveTo>
                  <a:pt x="0" y="69"/>
                </a:moveTo>
                <a:cubicBezTo>
                  <a:pt x="692" y="85"/>
                  <a:pt x="1375" y="79"/>
                  <a:pt x="1776" y="69"/>
                </a:cubicBezTo>
                <a:cubicBezTo>
                  <a:pt x="2177" y="59"/>
                  <a:pt x="2118" y="18"/>
                  <a:pt x="2406" y="9"/>
                </a:cubicBezTo>
                <a:cubicBezTo>
                  <a:pt x="2694" y="0"/>
                  <a:pt x="3275" y="15"/>
                  <a:pt x="3504" y="17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268600" y="240660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ОЛОЖ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5042160" y="472428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АМПЛИФИКАЦИИ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4A0A-E29B-4B92-AB5F-D37B02E42E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F9C9-ACAE-42D0-9FFB-1A670783D396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ЦР в реальном времен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 1" descr=""/>
          <p:cNvPicPr/>
          <p:nvPr/>
        </p:nvPicPr>
        <p:blipFill>
          <a:blip r:embed="rId2"/>
          <a:stretch/>
        </p:blipFill>
        <p:spPr>
          <a:xfrm>
            <a:off x="1474920" y="2773440"/>
            <a:ext cx="353880" cy="14745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7"/>
          <p:cNvSpPr/>
          <p:nvPr/>
        </p:nvSpPr>
        <p:spPr>
          <a:xfrm>
            <a:off x="3931200" y="5334120"/>
            <a:ext cx="1159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Номер цик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7023960" y="2114640"/>
            <a:ext cx="7095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Проба 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Verdana"/>
              </a:rPr>
              <a:t>Проба 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7113960" y="4021200"/>
            <a:ext cx="572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66"/>
                </a:solidFill>
                <a:latin typeface="Verdana"/>
              </a:rPr>
              <a:t>Пор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2879640" y="4770360"/>
            <a:ext cx="5763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Фо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2517480" y="3290760"/>
            <a:ext cx="11559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Экспоненциальна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 </a:t>
            </a: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фаз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A041-87F7-4343-ADD5-0E53620174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DB20-A31A-4B9A-9ACA-BD25CD7BBC0E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66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ирус гриппа </a:t>
            </a: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F5E2-6748-4339-8B36-C7FF6680ED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2930-6470-4E53-89B9-DE6F209D6EFC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ирус гриппа </a:t>
            </a: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650880" y="1676520"/>
            <a:ext cx="7883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Olga</cp:lastModifiedBy>
  <dcterms:modified xsi:type="dcterms:W3CDTF">2013-05-12T11:03:51Z</dcterms:modified>
  <cp:revision>17</cp:revision>
  <dc:subject/>
  <dc:title>Quality Control:   Molecular Diagnostics</dc:title>
</cp:coreProperties>
</file>